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55708-8B53-41A1-B644-E76D4ADE8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183DF-6F5E-4F80-A555-AAD699810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31366-1BCD-4D92-937D-61882743E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2A01C-A735-46FD-95B2-9EE3CE5DC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0359A-9BB3-45DC-9F0E-E5B0720C6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B099A-1F9F-423C-A322-84029AAF9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13CCF-EF04-4126-8695-50996415E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EFCBB-7A05-474B-AAFB-623EB2B90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F7CF7-4635-4C1A-8C32-390AF6360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1C211-B821-4EB8-B01D-39E69B7C3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74183-626C-4996-A208-FA0670851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B0276-728E-446F-A6F6-2D51A4696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18A6D-8C70-4E04-BD70-B4E6FF72BA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4191120" y="4343400"/>
            <a:ext cx="1143000" cy="9907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Microsoft Sans Serif"/>
              </a:rPr>
              <a:t>A DAY IN LIFE AT APRED NDERA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952880" y="4419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ff"/>
                </a:solidFill>
                <a:latin typeface="Monotype Corsiva"/>
              </a:rPr>
              <a:t>BY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ff"/>
                </a:solidFill>
                <a:latin typeface="Monotype Corsiva"/>
              </a:rPr>
              <a:t>S.2 A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hecke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3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3000"/>
                            </p:stCondLst>
                            <p:childTnLst>
                              <p:par>
                                <p:cTn id="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3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3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3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3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6000"/>
                            </p:stCondLst>
                            <p:childTnLst>
                              <p:par>
                                <p:cTn id="1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30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30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30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30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 rot="1101600">
            <a:off x="4572000" y="3809880"/>
            <a:ext cx="2133720" cy="175284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00"/>
                </a:solidFill>
                <a:latin typeface="Arial Narrow"/>
              </a:rPr>
              <a:t>PREPS AFTER SUPP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Verdana"/>
              </a:rPr>
              <a:t>We again go back to books and we revise.After that they ring the bell to go to be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hecker dir="horz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3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9000"/>
                            </p:stCondLst>
                            <p:childTnLst>
                              <p:par>
                                <p:cTn id="1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3" dur="3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 rot="19988400">
            <a:off x="4800240" y="4114800"/>
            <a:ext cx="2057400" cy="198108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3300"/>
                </a:solidFill>
                <a:latin typeface="Verdana"/>
              </a:rPr>
              <a:t>BED TI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cc00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cc00cc"/>
                </a:solidFill>
                <a:latin typeface="Comic Sans MS"/>
              </a:rPr>
              <a:t>We first say our prayers and say good night to our friends and then sleep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hecker dir="horz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3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3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1000"/>
                            </p:stCondLst>
                            <p:childTnLst>
                              <p:par>
                                <p:cTn id="15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3" dur="3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 rot="19453200">
            <a:off x="5033880" y="4344480"/>
            <a:ext cx="1787760" cy="182880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ff"/>
                </a:solidFill>
                <a:latin typeface="Haettenschweiler"/>
              </a:rPr>
              <a:t>OUR NAME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490680" indent="-4906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Font typeface="Haettenschweile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Haettenschweiler"/>
              </a:rPr>
              <a:t>UWANZIGA OLIV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90680" indent="-490680">
              <a:lnSpc>
                <a:spcPct val="90000"/>
              </a:lnSpc>
              <a:spcBef>
                <a:spcPts val="799"/>
              </a:spcBef>
              <a:buClr>
                <a:srgbClr val="33cc3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cc33"/>
                </a:solidFill>
                <a:latin typeface="Verdana"/>
              </a:rPr>
              <a:t>MUHINDA DENNI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90680" indent="-490680">
              <a:lnSpc>
                <a:spcPct val="90000"/>
              </a:lnSpc>
              <a:spcBef>
                <a:spcPts val="799"/>
              </a:spcBef>
              <a:buClr>
                <a:srgbClr val="9900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00cc"/>
                </a:solidFill>
                <a:latin typeface="Times New Roman"/>
              </a:rPr>
              <a:t>MUSONI CALIN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90680" indent="-490680">
              <a:lnSpc>
                <a:spcPct val="90000"/>
              </a:lnSpc>
              <a:spcBef>
                <a:spcPts val="799"/>
              </a:spcBef>
              <a:buClr>
                <a:srgbClr val="66cc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ccff"/>
                </a:solidFill>
                <a:latin typeface="Times New Roman"/>
              </a:rPr>
              <a:t>MUTESI SCOVI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90680" indent="-490680">
              <a:lnSpc>
                <a:spcPct val="90000"/>
              </a:lnSpc>
              <a:spcBef>
                <a:spcPts val="799"/>
              </a:spcBef>
              <a:buClr>
                <a:srgbClr val="3333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ff"/>
                </a:solidFill>
                <a:latin typeface="Times New Roman"/>
              </a:rPr>
              <a:t>INGABIRE </a:t>
            </a:r>
            <a:r>
              <a:rPr b="1" i="1" lang="en-US" sz="3200" spc="-1" strike="noStrike">
                <a:solidFill>
                  <a:srgbClr val="ffcc00"/>
                </a:solidFill>
                <a:latin typeface="Times New Roman"/>
              </a:rPr>
              <a:t>SHAKI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>
            <a:hlinkClick r:id="" action="ppaction://hlinkshowjump?jump=firstslide"/>
          </p:cNvPr>
          <p:cNvSpPr/>
          <p:nvPr/>
        </p:nvSpPr>
        <p:spPr>
          <a:xfrm>
            <a:off x="8153280" y="6019920"/>
            <a:ext cx="990720" cy="838080"/>
          </a:xfrm>
          <a:custGeom>
            <a:avLst/>
            <a:gdLst>
              <a:gd name="textAreaLeft" fmla="*/ 54000 w 990720"/>
              <a:gd name="textAreaRight" fmla="*/ 936720 w 9907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5532" h="21600">
                <a:moveTo>
                  <a:pt x="0" y="0"/>
                </a:moveTo>
                <a:lnTo>
                  <a:pt x="25532" y="0"/>
                </a:lnTo>
                <a:lnTo>
                  <a:pt x="25532" y="21600"/>
                </a:lnTo>
                <a:lnTo>
                  <a:pt x="0" y="21600"/>
                </a:lnTo>
                <a:close/>
              </a:path>
              <a:path fill="lightenLess" w="25532" h="21600">
                <a:moveTo>
                  <a:pt x="0" y="0"/>
                </a:moveTo>
                <a:lnTo>
                  <a:pt x="25532" y="0"/>
                </a:lnTo>
                <a:lnTo>
                  <a:pt x="24132" y="1400"/>
                </a:lnTo>
                <a:lnTo>
                  <a:pt x="1400" y="1400"/>
                </a:lnTo>
                <a:close/>
              </a:path>
              <a:path fill="darken" w="25532" h="21600">
                <a:moveTo>
                  <a:pt x="25532" y="0"/>
                </a:moveTo>
                <a:lnTo>
                  <a:pt x="25532" y="21600"/>
                </a:lnTo>
                <a:lnTo>
                  <a:pt x="24132" y="20200"/>
                </a:lnTo>
                <a:lnTo>
                  <a:pt x="24132" y="1400"/>
                </a:lnTo>
                <a:close/>
              </a:path>
              <a:path fill="darkenLess" w="25532" h="21600">
                <a:moveTo>
                  <a:pt x="255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32" y="20200"/>
                </a:lnTo>
                <a:close/>
              </a:path>
              <a:path fill="lighten" w="255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32" h="21600">
                <a:moveTo>
                  <a:pt x="9267" y="10800"/>
                </a:moveTo>
                <a:lnTo>
                  <a:pt x="19773" y="3794"/>
                </a:lnTo>
                <a:lnTo>
                  <a:pt x="19773" y="17806"/>
                </a:lnTo>
                <a:close/>
              </a:path>
              <a:path fill="darken" w="25532" h="21600">
                <a:moveTo>
                  <a:pt x="5760" y="3794"/>
                </a:moveTo>
                <a:lnTo>
                  <a:pt x="7422" y="3794"/>
                </a:lnTo>
                <a:lnTo>
                  <a:pt x="7422" y="17806"/>
                </a:lnTo>
                <a:lnTo>
                  <a:pt x="5760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hecker dir="horz"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7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2000"/>
                            </p:stCondLst>
                            <p:childTnLst>
                              <p:par>
                                <p:cTn id="16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3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3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30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30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8000"/>
                            </p:stCondLst>
                            <p:childTnLst>
                              <p:par>
                                <p:cTn id="1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30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30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11000"/>
                            </p:stCondLst>
                            <p:childTnLst>
                              <p:par>
                                <p:cTn id="17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30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30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14000"/>
                            </p:stCondLst>
                            <p:childTnLst>
                              <p:par>
                                <p:cTn id="18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30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30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7543800" y="5334120"/>
            <a:ext cx="1600200" cy="12952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Verdana"/>
              </a:rPr>
              <a:t>EARLY IN THE MORNING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-360" y="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8000"/>
          </a:bodyPr>
          <a:p>
            <a:pPr marL="233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90000"/>
              </a:lnSpc>
              <a:spcBef>
                <a:spcPts val="700"/>
              </a:spcBef>
              <a:buClr>
                <a:srgbClr val="66ff66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6ff66"/>
                </a:solidFill>
                <a:latin typeface="Monotype Corsiva"/>
              </a:rPr>
              <a:t>I say my prayers and I greet my frien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90000"/>
              </a:lnSpc>
              <a:spcBef>
                <a:spcPts val="700"/>
              </a:spcBef>
              <a:buClr>
                <a:srgbClr val="66ff66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6ff66"/>
                </a:solidFill>
                <a:latin typeface="Monotype Corsiva"/>
              </a:rPr>
              <a:t>I lay my bed,I brush my teeth, I go to bath,I wipe my body with a towel ,I smear my body with lotion,I comb my hair after I put on my uniform look for my books,then I go for my break  fast  to clas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hecker dir="horz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3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8000"/>
                            </p:stCondLst>
                            <p:childTnLst>
                              <p:par>
                                <p:cTn id="3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30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48000"/>
                            </p:stCondLst>
                            <p:childTnLst>
                              <p:par>
                                <p:cTn id="3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300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6172200" y="4495680"/>
            <a:ext cx="1828800" cy="1219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7c80"/>
                </a:solidFill>
                <a:latin typeface="Arial Narrow"/>
              </a:rPr>
              <a:t>CLASS TIM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66ff"/>
                </a:solidFill>
                <a:latin typeface="Arial Black"/>
              </a:rPr>
              <a:t>When we get to class we revise our books until  the teacher comes in, when the  teacher comes we greet him/her then start the morning lesson .we learn four lessons and then go to break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hecker dir="horz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3000"/>
                            </p:stCondLst>
                            <p:childTnLst>
                              <p:par>
                                <p:cTn id="4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3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3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3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3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391520" y="5334120"/>
            <a:ext cx="1752480" cy="152388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99cc00"/>
                </a:solidFill>
                <a:latin typeface="Garamond"/>
              </a:rPr>
              <a:t>BREAK TIM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8f8f8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8f8f8"/>
                </a:solidFill>
                <a:latin typeface="Century Gothic"/>
              </a:rPr>
              <a:t>During break time we go out for some snacks like juice. and we then go to clas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hecker dir="horz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3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3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3000"/>
                            </p:stCondLst>
                            <p:childTnLst>
                              <p:par>
                                <p:cTn id="6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3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3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99cc"/>
                </a:solidFill>
                <a:latin typeface="Palatino Linotype"/>
              </a:rPr>
              <a:t>LUNCH TIM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3300"/>
                </a:solidFill>
                <a:latin typeface="Microsoft Sans Serif"/>
              </a:rPr>
              <a:t>We go for lunch time at 12.50 p.m and go to the dinning, and we leave the dinning at 1.30pm.and then go to class at 1.50p.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648320" y="3962520"/>
            <a:ext cx="1904760" cy="150480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3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3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3000"/>
                            </p:stCondLst>
                            <p:childTnLst>
                              <p:par>
                                <p:cTn id="7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3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58000" y="4800600"/>
            <a:ext cx="1752480" cy="14479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cc00"/>
                </a:solidFill>
                <a:latin typeface="Arial"/>
              </a:rPr>
              <a:t>AFTER LUN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After lunch, I’m still full of meals but it doesn’t stop me from attending to my Computer clas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hecker dir="horz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3" dur="3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3000"/>
                            </p:stCondLst>
                            <p:childTnLst>
                              <p:par>
                                <p:cTn id="8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3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3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3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3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 rot="19439400">
            <a:off x="6934320" y="4571640"/>
            <a:ext cx="1904760" cy="167652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ffffff"/>
                </a:solidFill>
                <a:latin typeface="Arial Narrow"/>
              </a:rPr>
              <a:t>SPORTS TIM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 put on my sports wear and I go to p lay different games like volley ball, basket ball, etc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hecker dir="horz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7" dur="3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6000"/>
                            </p:stCondLst>
                            <p:childTnLst>
                              <p:par>
                                <p:cTn id="99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4572000" y="4648320"/>
            <a:ext cx="2057400" cy="175248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3333cc"/>
                </a:solidFill>
                <a:latin typeface="Georgia"/>
              </a:rPr>
              <a:t>PREP TIM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100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We group with friends and we start to discuss about the days less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hecker dir="horz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7" dur="3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3000"/>
                            </p:stCondLst>
                            <p:childTnLst>
                              <p:par>
                                <p:cTn id="109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iterate type="wd">
                                    <p:tmAbs val="300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11" dur="3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7c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952880" y="4876920"/>
            <a:ext cx="1981440" cy="16761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200" spc="-1" strike="noStrike">
                <a:solidFill>
                  <a:srgbClr val="0099cc"/>
                </a:solidFill>
                <a:latin typeface="Verdana"/>
              </a:rPr>
              <a:t>SUPPER TIME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44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3300"/>
                </a:solidFill>
                <a:latin typeface="Verdana"/>
              </a:rPr>
              <a:t>They ring the bell for supper and we go in the dinning to ea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hecker dir="horz"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8" dur="3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3000"/>
                            </p:stCondLst>
                            <p:childTnLst>
                              <p:par>
                                <p:cTn id="12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2" dur="3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8T07:52:22Z</dcterms:created>
  <dc:creator>APRED</dc:creator>
  <dc:description/>
  <dc:language>en-US</dc:language>
  <cp:lastModifiedBy>APRED</cp:lastModifiedBy>
  <dcterms:modified xsi:type="dcterms:W3CDTF">2002-10-24T15:16:33Z</dcterms:modified>
  <cp:revision>16</cp:revision>
  <dc:subject/>
  <dc:title>A DAY IN LIFE AT APRED NDERA.</dc:title>
</cp:coreProperties>
</file>